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05E10-E58F-456D-9CF7-721520653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F19DF-FFF4-46A9-BF95-F333948D0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8A939-B04A-4AD4-8473-EDB30A1AB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39FB5-7E26-4C27-B2A9-48D3DED94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9B0E7-A0F7-47A8-9DA5-3ADA86E1B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22803-7DD2-4F21-8A87-B5D685764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D3A18-2767-43B6-BF75-573A04412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F5098-E401-4FFD-839C-6058C4B8C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09AE6-E9AB-4FA7-8D28-6A95A92D6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50843-EFC2-4806-80D0-107AA74C5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0B067-FD8B-4783-8BF6-1BB3228C6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A9F83-ADE7-4E79-93E2-E71BBF17E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D5A4A-9A14-4055-B633-993117111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02613-F1FC-4854-AE3D-932B375A0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59F77-7DDF-4C30-A8FB-0F3596FBC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7088A-02DE-46CE-BE18-B23067952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3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4144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5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3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4144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33EAB-3DD0-4D11-9BE8-73D6BF559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763C1-5BCA-4598-B2DC-0DB0D9B8B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903A4-1953-4336-B75E-4A8782842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591D8-6894-4983-8BD2-F80A74FF7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F28F9-CD3B-410A-A9B3-E3BB703C5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E6D4D-3EBE-4822-8BC0-8DFC429F2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D1A07-07EA-4A36-9C87-5A4FD30E9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C1B04-5EB5-4C1C-BC56-E21D6A084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35480" indent="-282960"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1131480" indent="-226080">
              <a:buClr>
                <a:srgbClr val="66cc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584000" indent="-226080">
              <a:buClr>
                <a:srgbClr val="80ff00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2036520" indent="-226080">
              <a:buClr>
                <a:srgbClr val="ffcc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2036520" indent="-226080">
              <a:buClr>
                <a:srgbClr val="ffff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2036520" indent="-226080">
              <a:buClr>
                <a:srgbClr val="ffff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7720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3D852-7566-4CFD-AEB3-563B5703581E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7720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11D5C-47DD-44E4-B5F1-EF6AD77C70AB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15998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Unit #9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3123720"/>
            <a:ext cx="7772400" cy="3505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Gases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and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The Gas Laws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Chalkboard"/>
              </a:rPr>
              <a:t>Ideal Gas -</a:t>
            </a:r>
            <a:r>
              <a:rPr b="0" lang="en-US" sz="4000" spc="-1" strike="noStrike">
                <a:solidFill>
                  <a:srgbClr val="ff0000"/>
                </a:solidFill>
                <a:latin typeface="Chalkboard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762120" y="2666520"/>
            <a:ext cx="7772400" cy="3505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An imaginary gas whose behavior is described by the gas laws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62120" y="23619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halkboard"/>
              </a:rPr>
              <a:t>Observed Properties of Gases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Chalkboard"/>
              </a:rPr>
              <a:t>Expansion - 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Gases do not have a definite shape or volume. Their shape is determined by the container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0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Chalkboard"/>
              </a:rPr>
              <a:t>Pressure -</a:t>
            </a:r>
            <a:r>
              <a:rPr b="0" lang="en-US" sz="4000" spc="-1" strike="noStrike">
                <a:solidFill>
                  <a:srgbClr val="ff0000"/>
                </a:solidFill>
                <a:latin typeface="Chalkboard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7772400" cy="3505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Directly proportional to temperature. As the temp goes up, so does the pressure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0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 u="sng">
                <a:solidFill>
                  <a:srgbClr val="ffffff"/>
                </a:solidFill>
                <a:uFillTx/>
                <a:latin typeface="Comic Sans MS"/>
              </a:rPr>
              <a:t>Low Density -</a:t>
            </a:r>
            <a:r>
              <a:rPr b="0" lang="en-US" sz="26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-360" y="2209320"/>
            <a:ext cx="8839080" cy="3505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Gases are approximately 1/1000 the density of their solid or liquid phase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3505320"/>
            <a:ext cx="914400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mic Sans MS"/>
                <a:ea typeface="ＭＳ Ｐゴシック"/>
              </a:rPr>
              <a:t>Example:  1.5 grams of  "substance A" might have a volume of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309680" y="4952880"/>
            <a:ext cx="5001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mic Sans MS"/>
              </a:rPr>
              <a:t>b)</a:t>
            </a:r>
            <a:r>
              <a:rPr b="0" lang="en-US" sz="2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omic Sans MS"/>
              </a:rPr>
              <a:t>1.3 mL</a:t>
            </a:r>
            <a:r>
              <a:rPr b="0" lang="en-US" sz="2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omic Sans MS"/>
              </a:rPr>
              <a:t>when a liqui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314720" y="5486400"/>
            <a:ext cx="46825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mic Sans MS"/>
              </a:rPr>
              <a:t>c)</a:t>
            </a:r>
            <a:r>
              <a:rPr b="0" lang="en-US" sz="2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omic Sans MS"/>
              </a:rPr>
              <a:t>1050 mL</a:t>
            </a:r>
            <a:r>
              <a:rPr b="0" lang="en-US" sz="2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omic Sans MS"/>
              </a:rPr>
              <a:t>when a ga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325520" y="4419720"/>
            <a:ext cx="48672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a)</a:t>
            </a:r>
            <a:r>
              <a:rPr b="0" lang="en-US" sz="26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omic Sans MS"/>
              </a:rPr>
              <a:t>1.0 mL</a:t>
            </a:r>
            <a:r>
              <a:rPr b="0" lang="en-US" sz="2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omic Sans MS"/>
              </a:rPr>
              <a:t>when a soli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0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Chalkboard"/>
              </a:rPr>
              <a:t>Diffusion -</a:t>
            </a:r>
            <a:r>
              <a:rPr b="0" lang="en-US" sz="4000" spc="-1" strike="noStrike">
                <a:solidFill>
                  <a:srgbClr val="ffffff"/>
                </a:solidFill>
                <a:latin typeface="Chalkboard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e process of spreading out uniformly (without help), to occupy a space uniformly is a characteristic of all gases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0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halkboard"/>
              </a:rPr>
              <a:t>Kinetic Theory of a Gas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halkboard"/>
              </a:rPr>
              <a:t>(Description of a Gas)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0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 u="sng">
                <a:solidFill>
                  <a:srgbClr val="ffffff"/>
                </a:solidFill>
                <a:uFillTx/>
                <a:latin typeface="Chalkboard"/>
              </a:rPr>
              <a:t>Kinetic Theory of a Gas -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Chalkboar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-762480" y="2437920"/>
            <a:ext cx="9525240" cy="3505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lvl="2" marL="1143000" indent="0">
              <a:lnSpc>
                <a:spcPct val="12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A gas consist of very small independent particles (atoms / molecules) that move at random in space; and experience elastic collisions.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2" name=""/>
          <p:cNvSpPr/>
          <p:nvPr/>
        </p:nvSpPr>
        <p:spPr>
          <a:xfrm>
            <a:off x="1001160" y="4572000"/>
            <a:ext cx="7165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halkboard"/>
              </a:rPr>
              <a:t>[ This "imaginary gas" is called an Ideal Gas ]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Chalkboard"/>
              </a:rPr>
              <a:t>Elastic Collision -</a:t>
            </a:r>
            <a:r>
              <a:rPr b="0" lang="en-US" sz="4000" spc="-1" strike="noStrike">
                <a:solidFill>
                  <a:srgbClr val="ffffff"/>
                </a:solidFill>
                <a:latin typeface="Chalkboard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A collision that assumes there is no change in Kinetic energy, even after collisions with the inside of the container and each other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0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5 assumptions of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e Kinetic Theory of a Gas: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-360" y="3352320"/>
            <a:ext cx="8839080" cy="3505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lvl="2" marL="11430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1)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The molecules are of an ideal mass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0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Remember…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4" name=""/>
          <p:cNvSpPr/>
          <p:nvPr/>
        </p:nvSpPr>
        <p:spPr>
          <a:xfrm>
            <a:off x="4584600" y="3446640"/>
            <a:ext cx="9144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921040" y="3425760"/>
            <a:ext cx="9144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248520" y="3429000"/>
            <a:ext cx="9144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699080" y="3560760"/>
            <a:ext cx="114120" cy="114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156280" y="3446640"/>
            <a:ext cx="114120" cy="114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927680" y="4246560"/>
            <a:ext cx="114120" cy="114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813200" y="4017960"/>
            <a:ext cx="114480" cy="114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584600" y="4132440"/>
            <a:ext cx="114480" cy="114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5041080" y="3789360"/>
            <a:ext cx="112680" cy="114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2983680" y="4132440"/>
            <a:ext cx="112680" cy="114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3276000" y="4114800"/>
            <a:ext cx="112680" cy="114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3440880" y="4132440"/>
            <a:ext cx="112680" cy="114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3555360" y="4017960"/>
            <a:ext cx="112680" cy="114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26760" y="4017960"/>
            <a:ext cx="112680" cy="114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3098160" y="4017960"/>
            <a:ext cx="112680" cy="114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2983680" y="3903840"/>
            <a:ext cx="112680" cy="114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3212280" y="3903840"/>
            <a:ext cx="112680" cy="114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3440880" y="3903840"/>
            <a:ext cx="112680" cy="114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3555360" y="3789360"/>
            <a:ext cx="112680" cy="114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3326760" y="3789360"/>
            <a:ext cx="112680" cy="114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3098160" y="3789360"/>
            <a:ext cx="112680" cy="114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2983680" y="3675240"/>
            <a:ext cx="112680" cy="114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3212280" y="3675240"/>
            <a:ext cx="112680" cy="114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3440880" y="3675240"/>
            <a:ext cx="112680" cy="114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3555360" y="3560760"/>
            <a:ext cx="112680" cy="114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3326760" y="3560760"/>
            <a:ext cx="112680" cy="114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098160" y="3560760"/>
            <a:ext cx="112680" cy="114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362640" y="4098960"/>
            <a:ext cx="114480" cy="112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6476400" y="3641760"/>
            <a:ext cx="114120" cy="112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6933600" y="3870360"/>
            <a:ext cx="114120" cy="112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5269680" y="3675240"/>
            <a:ext cx="112680" cy="114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5384160" y="4132440"/>
            <a:ext cx="112680" cy="114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874600" y="4427640"/>
            <a:ext cx="87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Sol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525560" y="4427640"/>
            <a:ext cx="106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Liqu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305040" y="4427640"/>
            <a:ext cx="72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G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241640" y="5181480"/>
            <a:ext cx="28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Which has mo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008960" y="5181480"/>
            <a:ext cx="164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entropy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005720" y="5181480"/>
            <a:ext cx="149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energy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5 assumptions of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e Kinetic Theory of a Gas: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-360" y="3352320"/>
            <a:ext cx="8839080" cy="3505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lvl="2" marL="11430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2)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The molecules are in constant random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straight line motion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0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5 assumptions of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e Kinetic Theory of a Gas: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-360" y="3352320"/>
            <a:ext cx="8839080" cy="3505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lvl="2" marL="11430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3)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The 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  <a:ea typeface="Times New Roman"/>
              </a:rPr>
              <a:t>a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verage Kinetic energy is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proportional to the absolute temperature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of the molecule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2" marL="11430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0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5 assumptions of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e Kinetic Theory of a Gas: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-360" y="3352320"/>
            <a:ext cx="8839080" cy="3505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lvl="2" marL="11430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4)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All collisions are Elastic, (No change in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Kinetic energy)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2" marL="11430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2" marL="11430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0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5 assumptions of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e Kinetic Theory of a Gas: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-360" y="3352320"/>
            <a:ext cx="8839080" cy="3505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lvl="2" marL="11430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5)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The molecules do not attract or repel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each other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2" marL="11430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2" marL="11430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2" marL="11430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4560" y="1752120"/>
            <a:ext cx="88390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halkboard"/>
                <a:ea typeface="Times New Roman"/>
              </a:rPr>
              <a:t>There are intermolecular (van der Waal) </a:t>
            </a:r>
            <a:r>
              <a:rPr b="1" lang="en-US" sz="2600" spc="-1" strike="noStrike">
                <a:solidFill>
                  <a:srgbClr val="ffffff"/>
                </a:solidFill>
                <a:latin typeface="Chalkboard"/>
              </a:rPr>
              <a:t>attractive forces between gas molecules:</a:t>
            </a:r>
            <a:br>
              <a:rPr sz="2600"/>
            </a:br>
            <a:endParaRPr b="0" lang="en-US" sz="2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6" name=""/>
          <p:cNvSpPr/>
          <p:nvPr/>
        </p:nvSpPr>
        <p:spPr>
          <a:xfrm>
            <a:off x="615600" y="2819520"/>
            <a:ext cx="5001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ffffff"/>
                </a:solidFill>
                <a:uFillTx/>
                <a:latin typeface="Chalkboard"/>
              </a:rPr>
              <a:t>Condensation Temperature -</a:t>
            </a:r>
            <a:r>
              <a:rPr b="0" lang="en-US" sz="2600" spc="-1" strike="noStrike">
                <a:solidFill>
                  <a:srgbClr val="ffffff"/>
                </a:solidFill>
                <a:latin typeface="Chalkboard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62120" y="3505320"/>
            <a:ext cx="792468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halkboard"/>
              </a:rPr>
              <a:t>The lowest temperature a substance can exist as a gas at atmospheric pressure. At this temperature the Kinetic energy of the gas particle is not sufficient to overcome the forces of attraction between the particle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Chalkboard"/>
              </a:rPr>
              <a:t>Boyles Law -</a:t>
            </a:r>
            <a:r>
              <a:rPr b="0" lang="en-US" sz="4000" spc="-1" strike="noStrike">
                <a:solidFill>
                  <a:srgbClr val="ff0000"/>
                </a:solidFill>
                <a:latin typeface="Chalkboard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At constant temperature, the volume is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Chalkboard"/>
              </a:rPr>
              <a:t>inversely</a:t>
            </a: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 proportional to the pressure applied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13716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a)</a:t>
            </a: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P</a:t>
            </a: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↑</a:t>
            </a: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 V</a:t>
            </a: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↓</a:t>
            </a: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and</a:t>
            </a: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P</a:t>
            </a: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↓</a:t>
            </a: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 V</a:t>
            </a: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↑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2" marL="1371600" indent="0">
              <a:lnSpc>
                <a:spcPct val="90000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2" marL="13716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  <a:ea typeface="Times New Roman"/>
              </a:rPr>
              <a:t>b)</a:t>
            </a:r>
            <a:r>
              <a:rPr b="0" lang="en-US" sz="2400" spc="-1" strike="noStrike">
                <a:solidFill>
                  <a:srgbClr val="ffffff"/>
                </a:solidFill>
                <a:latin typeface="Chalkboard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P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halkboard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V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halkboard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 = P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halkboard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V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halkboard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0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-360" y="1371240"/>
            <a:ext cx="88390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Examples, (assume constant temperature):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-360" y="2057400"/>
            <a:ext cx="8839080" cy="1752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lvl="2" marL="11430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A 14.5 liter sample of gas is under a pressure of  7.62 KPa.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halkboard"/>
              </a:rPr>
              <a:t>What will the volume be if the pressure is decreased to 5.54 KPa ?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2" name=""/>
          <p:cNvSpPr/>
          <p:nvPr/>
        </p:nvSpPr>
        <p:spPr>
          <a:xfrm>
            <a:off x="1419480" y="3733920"/>
            <a:ext cx="533016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Chalkboard"/>
              </a:rPr>
              <a:t>Answer:</a:t>
            </a:r>
            <a:r>
              <a:rPr b="0" i="1" lang="en-US" sz="2800" spc="-1" strike="noStrike">
                <a:solidFill>
                  <a:srgbClr val="ffffff"/>
                </a:solidFill>
                <a:latin typeface="Chalkboard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Chalkboard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Chalkboard"/>
              </a:rPr>
              <a:t>     P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Chalkboard"/>
              </a:rPr>
              <a:t>1</a:t>
            </a:r>
            <a:r>
              <a:rPr b="0" i="1" lang="en-US" sz="2800" spc="-1" strike="noStrike">
                <a:solidFill>
                  <a:srgbClr val="ffffff"/>
                </a:solidFill>
                <a:latin typeface="Chalkboard"/>
              </a:rPr>
              <a:t>V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Chalkboard"/>
              </a:rPr>
              <a:t>1    </a:t>
            </a:r>
            <a:r>
              <a:rPr b="0" i="1" lang="en-US" sz="2800" spc="-1" strike="noStrike">
                <a:solidFill>
                  <a:srgbClr val="ffffff"/>
                </a:solidFill>
                <a:latin typeface="Chalkboard"/>
              </a:rPr>
              <a:t>=   P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Chalkboard"/>
              </a:rPr>
              <a:t>2</a:t>
            </a:r>
            <a:r>
              <a:rPr b="0" i="1" lang="en-US" sz="2800" spc="-1" strike="noStrike">
                <a:solidFill>
                  <a:srgbClr val="ffffff"/>
                </a:solidFill>
                <a:latin typeface="Chalkboard"/>
              </a:rPr>
              <a:t>V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Chalkboard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556360" y="4419720"/>
            <a:ext cx="5761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Chalkboard"/>
              </a:rPr>
              <a:t>(7.62 KPa) (14.5 L)  =  (5.54 KPa) (V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Chalkboard"/>
              </a:rPr>
              <a:t>2</a:t>
            </a:r>
            <a:r>
              <a:rPr b="0" i="1" lang="en-US" sz="2800" spc="-1" strike="noStrike">
                <a:solidFill>
                  <a:srgbClr val="ffffff"/>
                </a:solidFill>
                <a:latin typeface="Chalkboard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358880" y="5181480"/>
            <a:ext cx="1910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Chalkboar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Chalkboard"/>
              </a:rPr>
              <a:t>19.9 L = V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Chalkboard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0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0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-360" y="1371240"/>
            <a:ext cx="88390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Examples, (assume constant temperature):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-685800" y="2057400"/>
            <a:ext cx="9524880" cy="1752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lvl="2" marL="11430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A balloon contains  900 liters of "air" (assumed to be "Ideal") at 1.90 atm. </a:t>
            </a:r>
            <a:r>
              <a:rPr b="1" lang="en-US" sz="2800" spc="-1" strike="noStrike">
                <a:solidFill>
                  <a:srgbClr val="ffffff"/>
                </a:solidFill>
                <a:latin typeface="Chalkboard"/>
              </a:rPr>
              <a:t>What is the volume if the pressure is increased to 2.38 atm. ?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2" marL="11430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7" name=""/>
          <p:cNvSpPr/>
          <p:nvPr/>
        </p:nvSpPr>
        <p:spPr>
          <a:xfrm>
            <a:off x="1419480" y="3733920"/>
            <a:ext cx="533016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Chalkboard"/>
              </a:rPr>
              <a:t>Answer:</a:t>
            </a:r>
            <a:r>
              <a:rPr b="0" i="1" lang="en-US" sz="2800" spc="-1" strike="noStrike">
                <a:solidFill>
                  <a:srgbClr val="ffffff"/>
                </a:solidFill>
                <a:latin typeface="Chalkboard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Chalkboard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Chalkboard"/>
              </a:rPr>
              <a:t>     P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Chalkboard"/>
              </a:rPr>
              <a:t>1</a:t>
            </a:r>
            <a:r>
              <a:rPr b="0" i="1" lang="en-US" sz="2800" spc="-1" strike="noStrike">
                <a:solidFill>
                  <a:srgbClr val="ffffff"/>
                </a:solidFill>
                <a:latin typeface="Chalkboard"/>
              </a:rPr>
              <a:t>V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Chalkboard"/>
              </a:rPr>
              <a:t>1    </a:t>
            </a:r>
            <a:r>
              <a:rPr b="0" i="1" lang="en-US" sz="2800" spc="-1" strike="noStrike">
                <a:solidFill>
                  <a:srgbClr val="ffffff"/>
                </a:solidFill>
                <a:latin typeface="Chalkboard"/>
              </a:rPr>
              <a:t>=   P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Chalkboard"/>
              </a:rPr>
              <a:t>2</a:t>
            </a:r>
            <a:r>
              <a:rPr b="0" i="1" lang="en-US" sz="2800" spc="-1" strike="noStrike">
                <a:solidFill>
                  <a:srgbClr val="ffffff"/>
                </a:solidFill>
                <a:latin typeface="Chalkboard"/>
              </a:rPr>
              <a:t>V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Chalkboard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688840" y="4495680"/>
            <a:ext cx="553608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Chalkboard"/>
              </a:rPr>
              <a:t>(1.90 atm.)(900 L) = (2.38 atm.)(V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Chalkboard"/>
              </a:rPr>
              <a:t>2</a:t>
            </a:r>
            <a:r>
              <a:rPr b="0" i="1" lang="en-US" sz="2800" spc="-1" strike="noStrike">
                <a:solidFill>
                  <a:srgbClr val="ffffff"/>
                </a:solidFill>
                <a:latin typeface="Chalkboard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504680" y="5181480"/>
            <a:ext cx="1818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Chalkboar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Chalkboard"/>
              </a:rPr>
              <a:t>718 L = V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Chalkboard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0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-360" y="1371240"/>
            <a:ext cx="88390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Examples, (assume constant temperature):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-685800" y="1905120"/>
            <a:ext cx="9524880" cy="1752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97000"/>
          </a:bodyPr>
          <a:p>
            <a:pPr lvl="2" marL="110844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A piston compresses the contents of a cylinder, which was at a pressure of  620 mm Hg (about 12 psi), from  712.5mL  to  64.8mL.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halkboard"/>
              </a:rPr>
              <a:t>What is the new pressure inside the cylinder ?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2" marL="110844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2" name=""/>
          <p:cNvSpPr/>
          <p:nvPr/>
        </p:nvSpPr>
        <p:spPr>
          <a:xfrm>
            <a:off x="1419480" y="3733920"/>
            <a:ext cx="533016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Chalkboard"/>
              </a:rPr>
              <a:t>Answer:</a:t>
            </a:r>
            <a:r>
              <a:rPr b="0" i="1" lang="en-US" sz="2800" spc="-1" strike="noStrike">
                <a:solidFill>
                  <a:srgbClr val="ffffff"/>
                </a:solidFill>
                <a:latin typeface="Chalkboard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Chalkboard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Chalkboard"/>
              </a:rPr>
              <a:t>     P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Chalkboard"/>
              </a:rPr>
              <a:t>1</a:t>
            </a:r>
            <a:r>
              <a:rPr b="0" i="1" lang="en-US" sz="2800" spc="-1" strike="noStrike">
                <a:solidFill>
                  <a:srgbClr val="ffffff"/>
                </a:solidFill>
                <a:latin typeface="Chalkboard"/>
              </a:rPr>
              <a:t>V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Chalkboard"/>
              </a:rPr>
              <a:t>1    </a:t>
            </a:r>
            <a:r>
              <a:rPr b="0" i="1" lang="en-US" sz="2800" spc="-1" strike="noStrike">
                <a:solidFill>
                  <a:srgbClr val="ffffff"/>
                </a:solidFill>
                <a:latin typeface="Chalkboard"/>
              </a:rPr>
              <a:t>=   P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Chalkboard"/>
              </a:rPr>
              <a:t>2</a:t>
            </a:r>
            <a:r>
              <a:rPr b="0" i="1" lang="en-US" sz="2800" spc="-1" strike="noStrike">
                <a:solidFill>
                  <a:srgbClr val="ffffff"/>
                </a:solidFill>
                <a:latin typeface="Chalkboard"/>
              </a:rPr>
              <a:t>V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Chalkboard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900800" y="4495680"/>
            <a:ext cx="7171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Chalkboard"/>
              </a:rPr>
              <a:t>(620mmHg)(712.5mL)  =  (X mmHg)(64.8m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Chalkboar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428280" y="5181480"/>
            <a:ext cx="2917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Chalkboar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Chalkboard"/>
              </a:rPr>
              <a:t>6817 mmHg = P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Chalkboard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-360" y="1371240"/>
            <a:ext cx="88390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Examples, (assume constant temperature):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-685800" y="1905120"/>
            <a:ext cx="9524880" cy="1752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98000"/>
          </a:bodyPr>
          <a:p>
            <a:pPr lvl="2" marL="111996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A gas at 1 atmosphere of pressure, with a volume of 60 liters is allowed to expand to a volume of   180 liters. </a:t>
            </a:r>
            <a:r>
              <a:rPr b="1" lang="en-US" sz="2800" spc="-1" strike="noStrike">
                <a:solidFill>
                  <a:srgbClr val="ffffff"/>
                </a:solidFill>
                <a:latin typeface="Chalkboard"/>
              </a:rPr>
              <a:t>What happens to the pressure ?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2" marL="111996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2" marL="111996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7" name=""/>
          <p:cNvSpPr/>
          <p:nvPr/>
        </p:nvSpPr>
        <p:spPr>
          <a:xfrm>
            <a:off x="1419480" y="3733920"/>
            <a:ext cx="533016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Chalkboard"/>
              </a:rPr>
              <a:t>Answer:</a:t>
            </a:r>
            <a:r>
              <a:rPr b="0" i="1" lang="en-US" sz="2800" spc="-1" strike="noStrike">
                <a:solidFill>
                  <a:srgbClr val="ffffff"/>
                </a:solidFill>
                <a:latin typeface="Chalkboard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Chalkboard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Chalkboard"/>
              </a:rPr>
              <a:t>     P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Chalkboard"/>
              </a:rPr>
              <a:t>1</a:t>
            </a:r>
            <a:r>
              <a:rPr b="0" i="1" lang="en-US" sz="2800" spc="-1" strike="noStrike">
                <a:solidFill>
                  <a:srgbClr val="ffffff"/>
                </a:solidFill>
                <a:latin typeface="Chalkboard"/>
              </a:rPr>
              <a:t>V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Chalkboard"/>
              </a:rPr>
              <a:t>1    </a:t>
            </a:r>
            <a:r>
              <a:rPr b="0" i="1" lang="en-US" sz="2800" spc="-1" strike="noStrike">
                <a:solidFill>
                  <a:srgbClr val="ffffff"/>
                </a:solidFill>
                <a:latin typeface="Chalkboard"/>
              </a:rPr>
              <a:t>=   P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Chalkboard"/>
              </a:rPr>
              <a:t>2</a:t>
            </a:r>
            <a:r>
              <a:rPr b="0" i="1" lang="en-US" sz="2800" spc="-1" strike="noStrike">
                <a:solidFill>
                  <a:srgbClr val="ffffff"/>
                </a:solidFill>
                <a:latin typeface="Chalkboard"/>
              </a:rPr>
              <a:t>V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Chalkboard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401280" y="4495680"/>
            <a:ext cx="4801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Chalkboard"/>
              </a:rPr>
              <a:t>(1 atm)(60L)  =  (X atm)(180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Chalkboar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682800" y="5181480"/>
            <a:ext cx="25700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Chalkboar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Chalkboard"/>
              </a:rPr>
              <a:t>0.333 atm = P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Chalkboard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0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Chalkboard"/>
              </a:rPr>
              <a:t>Pressure -</a:t>
            </a:r>
            <a:r>
              <a:rPr b="0" lang="en-US" sz="4000" spc="-1" strike="noStrike">
                <a:solidFill>
                  <a:srgbClr val="ffffff"/>
                </a:solidFill>
                <a:latin typeface="Chalkboard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0" y="2742840"/>
            <a:ext cx="7772400" cy="3505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lvl="2" marL="1143000" indent="0">
              <a:lnSpc>
                <a:spcPct val="13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The measure of force over a given area. It is caused by the collision of the gas molecules / atoms with the sides of the container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 u="sng">
                <a:solidFill>
                  <a:srgbClr val="ffffff"/>
                </a:solidFill>
                <a:uFillTx/>
                <a:latin typeface="Chalkboard"/>
              </a:rPr>
              <a:t>Charles' Law -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0" y="2209320"/>
            <a:ext cx="8686800" cy="1752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At constant pressure, the volume of a gas is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Chalkboard"/>
              </a:rPr>
              <a:t>directly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 proportional to its Kelvin temperature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2" name=""/>
          <p:cNvSpPr/>
          <p:nvPr/>
        </p:nvSpPr>
        <p:spPr>
          <a:xfrm>
            <a:off x="-152640" y="3505320"/>
            <a:ext cx="768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a)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V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↑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 T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↑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and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V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↓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 T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↓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-120960" y="4114800"/>
            <a:ext cx="8541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  <a:ea typeface="Times New Roman"/>
              </a:rPr>
              <a:t>b)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V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halkboard"/>
                <a:ea typeface="ＭＳ Ｐゴシック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/T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halkboard"/>
                <a:ea typeface="ＭＳ Ｐゴシック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  =  V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halkboard"/>
                <a:ea typeface="ＭＳ Ｐゴシック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/T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halkboard"/>
                <a:ea typeface="ＭＳ Ｐゴシック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  or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 T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halkboard"/>
                <a:ea typeface="ＭＳ Ｐゴシック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V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halkboard"/>
                <a:ea typeface="ＭＳ Ｐゴシック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  =  T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halkboard"/>
                <a:ea typeface="ＭＳ Ｐゴシック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V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halkboard"/>
                <a:ea typeface="ＭＳ Ｐゴシック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-306720" y="4724280"/>
            <a:ext cx="8157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  <a:ea typeface="Times New Roman"/>
              </a:rPr>
              <a:t>c)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Temperature must be in Kelvi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-285480" y="5181480"/>
            <a:ext cx="5694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  <a:ea typeface="Times New Roman"/>
              </a:rPr>
              <a:t>i)</a:t>
            </a:r>
            <a:r>
              <a:rPr b="0" lang="en-US" sz="2400" spc="-1" strike="noStrike">
                <a:solidFill>
                  <a:srgbClr val="ffffff"/>
                </a:solidFill>
                <a:latin typeface="Chalkboard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K  =  C  +  273.1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  <a:ea typeface="Times New Roman"/>
              </a:rPr>
              <a:t>ii)</a:t>
            </a:r>
            <a:r>
              <a:rPr b="0" lang="en-US" sz="2400" spc="-1" strike="noStrike">
                <a:solidFill>
                  <a:srgbClr val="ffffff"/>
                </a:solidFill>
                <a:latin typeface="Chalkboard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C  =  K  -  273.1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fill="hold">
                      <p:stCondLst>
                        <p:cond delay="0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-360" y="1523520"/>
            <a:ext cx="88390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Examples, (assume constant pressure):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-685800" y="2286000"/>
            <a:ext cx="9524880" cy="1752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lvl="2" marL="11430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A sample of C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halkboard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 has a volume of 3.50 liters at   -1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Chalkboard"/>
              </a:rPr>
              <a:t>oC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 . </a:t>
            </a:r>
            <a:r>
              <a:rPr b="1" lang="en-US" sz="2800" spc="-1" strike="noStrike">
                <a:solidFill>
                  <a:srgbClr val="ffffff"/>
                </a:solidFill>
                <a:latin typeface="Chalkboard"/>
              </a:rPr>
              <a:t>What will its volume be at 100</a:t>
            </a:r>
            <a:r>
              <a:rPr b="1" lang="en-US" sz="2800" spc="-1" strike="noStrike" baseline="30000">
                <a:solidFill>
                  <a:srgbClr val="ffffff"/>
                </a:solidFill>
                <a:latin typeface="Chalkboard"/>
              </a:rPr>
              <a:t>oC</a:t>
            </a:r>
            <a:r>
              <a:rPr b="1" lang="en-US" sz="2800" spc="-1" strike="noStrike">
                <a:solidFill>
                  <a:srgbClr val="ffffff"/>
                </a:solidFill>
                <a:latin typeface="Chalkboard"/>
              </a:rPr>
              <a:t> ?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2" marL="11430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2" marL="11430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8" name=""/>
          <p:cNvSpPr/>
          <p:nvPr/>
        </p:nvSpPr>
        <p:spPr>
          <a:xfrm flipH="1" flipV="1">
            <a:off x="1752480" y="3808440"/>
            <a:ext cx="184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300120" y="4495680"/>
            <a:ext cx="273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Chalkboar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922320" y="3335400"/>
            <a:ext cx="81072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halkboard"/>
              </a:rPr>
              <a:t>Answer:</a:t>
            </a:r>
            <a:r>
              <a:rPr b="0" lang="en-US" sz="2600" spc="-1" strike="noStrike">
                <a:solidFill>
                  <a:srgbClr val="ffffff"/>
                </a:solidFill>
                <a:latin typeface="Chalkboard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halkboard"/>
              </a:rPr>
              <a:t>First convert all temperatures to Kelvi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170800" y="4133880"/>
            <a:ext cx="2346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halkboard"/>
              </a:rPr>
              <a:t>K = C + 273.15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164680" y="4629240"/>
            <a:ext cx="2776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halkboard"/>
              </a:rPr>
              <a:t>K = -10</a:t>
            </a:r>
            <a:r>
              <a:rPr b="1" lang="en-US" sz="2600" spc="-1" strike="noStrike" baseline="30000">
                <a:solidFill>
                  <a:srgbClr val="ffffff"/>
                </a:solidFill>
                <a:latin typeface="Chalkboard"/>
              </a:rPr>
              <a:t>oC</a:t>
            </a:r>
            <a:r>
              <a:rPr b="0" lang="en-US" sz="2600" spc="-1" strike="noStrike">
                <a:solidFill>
                  <a:srgbClr val="ffffff"/>
                </a:solidFill>
                <a:latin typeface="Chalkboard"/>
              </a:rPr>
              <a:t> +273.15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192760" y="5105520"/>
            <a:ext cx="2067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halkboard"/>
              </a:rPr>
              <a:t>K = 263.15 K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634720" y="4133880"/>
            <a:ext cx="2346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halkboard"/>
              </a:rPr>
              <a:t>K = C + 273.15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592240" y="4616280"/>
            <a:ext cx="2858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halkboard"/>
              </a:rPr>
              <a:t>K = 100</a:t>
            </a:r>
            <a:r>
              <a:rPr b="1" lang="en-US" sz="2600" spc="-1" strike="noStrike" baseline="30000">
                <a:solidFill>
                  <a:srgbClr val="ffffff"/>
                </a:solidFill>
                <a:latin typeface="Chalkboard"/>
              </a:rPr>
              <a:t>oC</a:t>
            </a:r>
            <a:r>
              <a:rPr b="0" lang="en-US" sz="2600" spc="-1" strike="noStrike">
                <a:solidFill>
                  <a:srgbClr val="ffffff"/>
                </a:solidFill>
                <a:latin typeface="Chalkboard"/>
              </a:rPr>
              <a:t> +273.15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621760" y="5073480"/>
            <a:ext cx="2067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halkboard"/>
              </a:rPr>
              <a:t>K = 373.15 K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fill="hold">
                      <p:stCondLst>
                        <p:cond delay="0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-360" y="1523520"/>
            <a:ext cx="88390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Examples, (assume constant pressure):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-685800" y="2286000"/>
            <a:ext cx="9524880" cy="1752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lvl="2" marL="11430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A sample of C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halkboard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 has a volume of 3.50 liters at  -1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Chalkboard"/>
              </a:rPr>
              <a:t>oC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 . </a:t>
            </a:r>
            <a:r>
              <a:rPr b="1" lang="en-US" sz="2800" spc="-1" strike="noStrike">
                <a:solidFill>
                  <a:srgbClr val="ffffff"/>
                </a:solidFill>
                <a:latin typeface="Chalkboard"/>
              </a:rPr>
              <a:t>What will its volume be at 100</a:t>
            </a:r>
            <a:r>
              <a:rPr b="1" lang="en-US" sz="2800" spc="-1" strike="noStrike" baseline="30000">
                <a:solidFill>
                  <a:srgbClr val="ffffff"/>
                </a:solidFill>
                <a:latin typeface="Chalkboard"/>
              </a:rPr>
              <a:t>oC</a:t>
            </a:r>
            <a:r>
              <a:rPr b="1" lang="en-US" sz="2800" spc="-1" strike="noStrike">
                <a:solidFill>
                  <a:srgbClr val="ffffff"/>
                </a:solidFill>
                <a:latin typeface="Chalkboard"/>
              </a:rPr>
              <a:t> ?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2" marL="11430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2" marL="11430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9" name=""/>
          <p:cNvSpPr/>
          <p:nvPr/>
        </p:nvSpPr>
        <p:spPr>
          <a:xfrm flipH="1" flipV="1">
            <a:off x="1752480" y="3808440"/>
            <a:ext cx="184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300120" y="4495680"/>
            <a:ext cx="273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Chalkboar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829080" y="3335400"/>
            <a:ext cx="597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halkboard"/>
              </a:rPr>
              <a:t>Answer:</a:t>
            </a:r>
            <a:r>
              <a:rPr b="0" lang="en-US" sz="2600" spc="-1" strike="noStrike">
                <a:solidFill>
                  <a:srgbClr val="ffffff"/>
                </a:solidFill>
                <a:latin typeface="Chalkboard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halkboard"/>
              </a:rPr>
              <a:t>Then solve using algebr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270960" y="3962520"/>
            <a:ext cx="191484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halkboard"/>
              </a:rPr>
              <a:t>T</a:t>
            </a:r>
            <a:r>
              <a:rPr b="0" lang="en-US" sz="2600" spc="-1" strike="noStrike" baseline="-25000">
                <a:solidFill>
                  <a:srgbClr val="ffffff"/>
                </a:solidFill>
                <a:latin typeface="Chalkboard"/>
              </a:rPr>
              <a:t>1</a:t>
            </a:r>
            <a:r>
              <a:rPr b="0" lang="en-US" sz="2600" spc="-1" strike="noStrike">
                <a:solidFill>
                  <a:srgbClr val="ffffff"/>
                </a:solidFill>
                <a:latin typeface="Chalkboard"/>
              </a:rPr>
              <a:t>V</a:t>
            </a:r>
            <a:r>
              <a:rPr b="0" lang="en-US" sz="2600" spc="-1" strike="noStrike" baseline="-25000">
                <a:solidFill>
                  <a:srgbClr val="ffffff"/>
                </a:solidFill>
                <a:latin typeface="Chalkboard"/>
              </a:rPr>
              <a:t>2</a:t>
            </a:r>
            <a:r>
              <a:rPr b="0" lang="en-US" sz="2600" spc="-1" strike="noStrike">
                <a:solidFill>
                  <a:srgbClr val="ffffff"/>
                </a:solidFill>
                <a:latin typeface="Chalkboard"/>
              </a:rPr>
              <a:t>  =  T</a:t>
            </a:r>
            <a:r>
              <a:rPr b="0" lang="en-US" sz="2600" spc="-1" strike="noStrike" baseline="-25000">
                <a:solidFill>
                  <a:srgbClr val="ffffff"/>
                </a:solidFill>
                <a:latin typeface="Chalkboard"/>
              </a:rPr>
              <a:t>2</a:t>
            </a:r>
            <a:r>
              <a:rPr b="0" lang="en-US" sz="2600" spc="-1" strike="noStrike">
                <a:solidFill>
                  <a:srgbClr val="ffffff"/>
                </a:solidFill>
                <a:latin typeface="Chalkboard"/>
              </a:rPr>
              <a:t>V</a:t>
            </a:r>
            <a:r>
              <a:rPr b="0" lang="en-US" sz="2600" spc="-1" strike="noStrike" baseline="-25000">
                <a:solidFill>
                  <a:srgbClr val="ffffff"/>
                </a:solidFill>
                <a:latin typeface="Chalkboard"/>
              </a:rPr>
              <a:t>1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649520" y="4648320"/>
            <a:ext cx="556668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baseline="-25000">
                <a:solidFill>
                  <a:srgbClr val="ffffff"/>
                </a:solidFill>
                <a:latin typeface="Chalkboard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Chalkboard"/>
              </a:rPr>
              <a:t>(263.15 K)(X L)  =  (373.15 K)(3.50 L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118680" y="5378400"/>
            <a:ext cx="2361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halkboard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Chalkboard"/>
              </a:rPr>
              <a:t>(X L)  =  4.96 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0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-360" y="1523520"/>
            <a:ext cx="88390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Examples, (assume constant pressure):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-685800" y="2286000"/>
            <a:ext cx="9524880" cy="1752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lvl="2" marL="11430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A  600mL  (20 oz.) cylinder  is full of  C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halkboard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  at 2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Chalkboard"/>
              </a:rPr>
              <a:t>oC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. </a:t>
            </a:r>
            <a:r>
              <a:rPr b="1" lang="en-US" sz="2800" spc="-1" strike="noStrike">
                <a:solidFill>
                  <a:srgbClr val="ffffff"/>
                </a:solidFill>
                <a:latin typeface="Chalkboard"/>
              </a:rPr>
              <a:t>What will the temperature be in Celsius, if the volume is dropped to 150mL?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2" marL="11430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2" marL="11430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2" marL="11430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7" name=""/>
          <p:cNvSpPr/>
          <p:nvPr/>
        </p:nvSpPr>
        <p:spPr>
          <a:xfrm flipH="1" flipV="1">
            <a:off x="1752480" y="3808440"/>
            <a:ext cx="184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300120" y="4495680"/>
            <a:ext cx="273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Chalkboar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028520" y="3581280"/>
            <a:ext cx="81072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halkboard"/>
              </a:rPr>
              <a:t>Answer:</a:t>
            </a:r>
            <a:r>
              <a:rPr b="0" lang="en-US" sz="2600" spc="-1" strike="noStrike">
                <a:solidFill>
                  <a:srgbClr val="ffffff"/>
                </a:solidFill>
                <a:latin typeface="Chalkboard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halkboard"/>
              </a:rPr>
              <a:t>First convert all temperatures to Kelvi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70800" y="4133880"/>
            <a:ext cx="2346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halkboard"/>
              </a:rPr>
              <a:t>K = C + 273.15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172600" y="4629240"/>
            <a:ext cx="2669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halkboard"/>
              </a:rPr>
              <a:t>K = 20</a:t>
            </a:r>
            <a:r>
              <a:rPr b="1" lang="en-US" sz="2600" spc="-1" strike="noStrike" baseline="30000">
                <a:solidFill>
                  <a:srgbClr val="ffffff"/>
                </a:solidFill>
                <a:latin typeface="Chalkboard"/>
              </a:rPr>
              <a:t>oC</a:t>
            </a:r>
            <a:r>
              <a:rPr b="0" lang="en-US" sz="2600" spc="-1" strike="noStrike">
                <a:solidFill>
                  <a:srgbClr val="ffffff"/>
                </a:solidFill>
                <a:latin typeface="Chalkboard"/>
              </a:rPr>
              <a:t> +273.15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192760" y="5105520"/>
            <a:ext cx="2067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halkboard"/>
              </a:rPr>
              <a:t>K = 293.15 K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6" dur="indefinite" restart="never" nodeType="tmRoot">
          <p:childTnLst>
            <p:seq>
              <p:cTn id="577" dur="indefinite" nodeType="mainSeq">
                <p:childTnLst>
                  <p:par>
                    <p:cTn id="578" fill="hold">
                      <p:stCondLst>
                        <p:cond delay="0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8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-360" y="1523520"/>
            <a:ext cx="88390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Examples, (assume constant pressure):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-685800" y="2286000"/>
            <a:ext cx="9524880" cy="1752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lvl="2" marL="11430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A  600mL  (20 oz.) cylinder  is full of  C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halkboard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  at 2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Chalkboard"/>
              </a:rPr>
              <a:t>oC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. </a:t>
            </a:r>
            <a:r>
              <a:rPr b="1" lang="en-US" sz="2800" spc="-1" strike="noStrike">
                <a:solidFill>
                  <a:srgbClr val="ffffff"/>
                </a:solidFill>
                <a:latin typeface="Chalkboard"/>
              </a:rPr>
              <a:t>What will the temperature be in Celsius, if the volume is dropped to 150mL?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2" marL="11430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2" marL="11430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2" marL="11430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5" name=""/>
          <p:cNvSpPr/>
          <p:nvPr/>
        </p:nvSpPr>
        <p:spPr>
          <a:xfrm flipH="1" flipV="1">
            <a:off x="1752480" y="3808440"/>
            <a:ext cx="184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300120" y="4495680"/>
            <a:ext cx="273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Chalkboar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829080" y="3657600"/>
            <a:ext cx="597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halkboard"/>
              </a:rPr>
              <a:t>Answer:</a:t>
            </a:r>
            <a:r>
              <a:rPr b="0" lang="en-US" sz="2600" spc="-1" strike="noStrike">
                <a:solidFill>
                  <a:srgbClr val="ffffff"/>
                </a:solidFill>
                <a:latin typeface="Chalkboard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halkboard"/>
              </a:rPr>
              <a:t>Then solve using algebr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272400" y="4191120"/>
            <a:ext cx="191484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halkboard"/>
              </a:rPr>
              <a:t>T</a:t>
            </a:r>
            <a:r>
              <a:rPr b="0" lang="en-US" sz="2600" spc="-1" strike="noStrike" baseline="-25000">
                <a:solidFill>
                  <a:srgbClr val="ffffff"/>
                </a:solidFill>
                <a:latin typeface="Chalkboard"/>
              </a:rPr>
              <a:t>1</a:t>
            </a:r>
            <a:r>
              <a:rPr b="0" lang="en-US" sz="2600" spc="-1" strike="noStrike">
                <a:solidFill>
                  <a:srgbClr val="ffffff"/>
                </a:solidFill>
                <a:latin typeface="Chalkboard"/>
              </a:rPr>
              <a:t>V</a:t>
            </a:r>
            <a:r>
              <a:rPr b="0" lang="en-US" sz="2600" spc="-1" strike="noStrike" baseline="-25000">
                <a:solidFill>
                  <a:srgbClr val="ffffff"/>
                </a:solidFill>
                <a:latin typeface="Chalkboard"/>
              </a:rPr>
              <a:t>2</a:t>
            </a:r>
            <a:r>
              <a:rPr b="0" lang="en-US" sz="2600" spc="-1" strike="noStrike">
                <a:solidFill>
                  <a:srgbClr val="ffffff"/>
                </a:solidFill>
                <a:latin typeface="Chalkboard"/>
              </a:rPr>
              <a:t>  =  T</a:t>
            </a:r>
            <a:r>
              <a:rPr b="0" lang="en-US" sz="2600" spc="-1" strike="noStrike" baseline="-25000">
                <a:solidFill>
                  <a:srgbClr val="ffffff"/>
                </a:solidFill>
                <a:latin typeface="Chalkboard"/>
              </a:rPr>
              <a:t>2</a:t>
            </a:r>
            <a:r>
              <a:rPr b="0" lang="en-US" sz="2600" spc="-1" strike="noStrike">
                <a:solidFill>
                  <a:srgbClr val="ffffff"/>
                </a:solidFill>
                <a:latin typeface="Chalkboard"/>
              </a:rPr>
              <a:t>V</a:t>
            </a:r>
            <a:r>
              <a:rPr b="0" lang="en-US" sz="2600" spc="-1" strike="noStrike" baseline="-25000">
                <a:solidFill>
                  <a:srgbClr val="ffffff"/>
                </a:solidFill>
                <a:latin typeface="Chalkboard"/>
              </a:rPr>
              <a:t>1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160640" y="4800600"/>
            <a:ext cx="540972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baseline="-25000">
                <a:solidFill>
                  <a:srgbClr val="ffffff"/>
                </a:solidFill>
                <a:latin typeface="Chalkboard"/>
              </a:rPr>
              <a:t> </a:t>
            </a:r>
            <a:r>
              <a:rPr b="0" i="1" lang="en-US" sz="2600" spc="-1" strike="noStrike">
                <a:solidFill>
                  <a:srgbClr val="ffffff"/>
                </a:solidFill>
                <a:latin typeface="Chalkboard"/>
              </a:rPr>
              <a:t>(293.15 K)(150 mL)  =  (X K)(600 mL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540520" y="5486400"/>
            <a:ext cx="2638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halkboard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Chalkboard"/>
              </a:rPr>
              <a:t>(73.28 K) = (X K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3" dur="indefinite" restart="never" nodeType="tmRoot">
          <p:childTnLst>
            <p:seq>
              <p:cTn id="604" dur="indefinite" nodeType="mainSeq">
                <p:childTnLst>
                  <p:par>
                    <p:cTn id="605" fill="hold">
                      <p:stCondLst>
                        <p:cond delay="0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-360" y="1523520"/>
            <a:ext cx="88390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Chalkboard"/>
              </a:rPr>
              <a:t>DO WE ALL AGREE WITH THIS ANSWER?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-685800" y="2286000"/>
            <a:ext cx="9524880" cy="1752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lvl="2" marL="11430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A  600mL  (20 oz.) cylinder  is full of  C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halkboard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  at 2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Chalkboard"/>
              </a:rPr>
              <a:t>oC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. </a:t>
            </a:r>
            <a:r>
              <a:rPr b="1" lang="en-US" sz="2800" spc="-1" strike="noStrike">
                <a:solidFill>
                  <a:srgbClr val="ffffff"/>
                </a:solidFill>
                <a:latin typeface="Chalkboard"/>
              </a:rPr>
              <a:t>What will the temperature be in Celsius, if the volume is dropped to 150mL?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2" marL="11430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2" marL="11430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2" marL="11430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3" name=""/>
          <p:cNvSpPr/>
          <p:nvPr/>
        </p:nvSpPr>
        <p:spPr>
          <a:xfrm flipH="1" flipV="1">
            <a:off x="1752480" y="3808440"/>
            <a:ext cx="184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300120" y="4495680"/>
            <a:ext cx="273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Chalkboar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880200" y="3657600"/>
            <a:ext cx="1427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halkboard"/>
              </a:rPr>
              <a:t>Answer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540520" y="3657600"/>
            <a:ext cx="2638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halkboard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Chalkboard"/>
              </a:rPr>
              <a:t>(73.28 K) = (X K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718720" y="4332240"/>
            <a:ext cx="2690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halkboard"/>
              </a:rPr>
              <a:t>C   =  K  -  273.15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748600" y="4921200"/>
            <a:ext cx="3330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halkboard"/>
              </a:rPr>
              <a:t>C   =  73.28  -  273.15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751040" y="5514840"/>
            <a:ext cx="32958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C   =  -199.87</a:t>
            </a:r>
            <a:r>
              <a:rPr b="0" lang="en-US" sz="2600" spc="-1" strike="noStrike" baseline="30000">
                <a:solidFill>
                  <a:srgbClr val="ffffff"/>
                </a:solidFill>
                <a:latin typeface="Chalkboard"/>
                <a:ea typeface="ＭＳ Ｐゴシック"/>
              </a:rPr>
              <a:t>oC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590920" y="3657600"/>
            <a:ext cx="2666880" cy="457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2580840" y="3651120"/>
            <a:ext cx="2687040" cy="3175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867280" y="3505320"/>
            <a:ext cx="327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This question wants the answer in Celsiu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0" dur="indefinite" restart="never" nodeType="tmRoot">
          <p:childTnLst>
            <p:seq>
              <p:cTn id="631" dur="indefinite" nodeType="mainSeq">
                <p:childTnLst>
                  <p:par>
                    <p:cTn id="632" fill="hold">
                      <p:stCondLst>
                        <p:cond delay="0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 u="sng">
                <a:solidFill>
                  <a:srgbClr val="ffffff"/>
                </a:solidFill>
                <a:uFillTx/>
                <a:latin typeface="Chalkboard"/>
              </a:rPr>
              <a:t>Ideal Gas Law -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0" y="2514240"/>
            <a:ext cx="8763120" cy="3505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lvl="2" marL="11430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The equation: PV = nRT, which relates the: </a:t>
            </a:r>
            <a:r>
              <a:rPr b="0" lang="en-US" sz="2800" spc="-1" strike="noStrike" baseline="30000">
                <a:solidFill>
                  <a:srgbClr val="ffffff"/>
                </a:solidFill>
                <a:latin typeface="Chalkboard"/>
              </a:rPr>
              <a:t># 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of moles, volume, temperature, and pressure; of an ideal gas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PV = nRT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6" name=""/>
          <p:cNvSpPr/>
          <p:nvPr/>
        </p:nvSpPr>
        <p:spPr>
          <a:xfrm>
            <a:off x="838080" y="2362320"/>
            <a:ext cx="7696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P = pressure in atmosphe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865080" y="3124080"/>
            <a:ext cx="5916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V = volume in Li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959400" y="3809880"/>
            <a:ext cx="511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n = </a:t>
            </a:r>
            <a:r>
              <a:rPr b="0" lang="en-US" sz="2800" spc="-1" strike="noStrike" baseline="30000">
                <a:solidFill>
                  <a:srgbClr val="ffffff"/>
                </a:solidFill>
                <a:latin typeface="Chalkboard"/>
                <a:ea typeface="ＭＳ Ｐゴシック"/>
              </a:rPr>
              <a:t>#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 of moles of the g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838080" y="4525920"/>
            <a:ext cx="8001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R = the universal gas constant =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0.0821 L * atm / mol * 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815760" y="5486400"/>
            <a:ext cx="529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T = temperature in Kelv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3" dur="indefinite" restart="never" nodeType="tmRoot">
          <p:childTnLst>
            <p:seq>
              <p:cTn id="664" dur="indefinite" nodeType="mainSeq">
                <p:childTnLst>
                  <p:par>
                    <p:cTn id="665" fill="hold">
                      <p:stCondLst>
                        <p:cond delay="0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Chalkboard"/>
              </a:rPr>
              <a:t>Ideal Gas -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-360" y="3352320"/>
            <a:ext cx="8915400" cy="3505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lvl="2" marL="11430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An imaginary gas whose behavior is described by the gas laws and Kinetic Theory of a gas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3" name=""/>
          <p:cNvSpPr/>
          <p:nvPr/>
        </p:nvSpPr>
        <p:spPr>
          <a:xfrm>
            <a:off x="1055160" y="2590920"/>
            <a:ext cx="21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Remember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9" dur="indefinite" restart="never" nodeType="tmRoot">
          <p:childTnLst>
            <p:seq>
              <p:cTn id="690" dur="indefinite" nodeType="mainSeq">
                <p:childTnLst>
                  <p:par>
                    <p:cTn id="691" fill="hold">
                      <p:stCondLst>
                        <p:cond delay="0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halkboard"/>
              </a:rPr>
              <a:t>Examples:</a:t>
            </a:r>
            <a:endParaRPr b="0" lang="en-US" sz="2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0" y="1676160"/>
            <a:ext cx="868680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95000"/>
          </a:bodyPr>
          <a:p>
            <a:pPr lvl="2" marL="108576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halkboard"/>
              </a:rPr>
              <a:t>	</a:t>
            </a:r>
            <a:r>
              <a:rPr b="1" lang="en-US" sz="2600" spc="-1" strike="noStrike">
                <a:solidFill>
                  <a:srgbClr val="ffffff"/>
                </a:solidFill>
                <a:latin typeface="Chalkboard"/>
              </a:rPr>
              <a:t>	</a:t>
            </a:r>
            <a:r>
              <a:rPr b="1" lang="en-US" sz="2600" spc="-1" strike="noStrike">
                <a:solidFill>
                  <a:srgbClr val="ffffff"/>
                </a:solidFill>
                <a:latin typeface="Chalkboard"/>
              </a:rPr>
              <a:t>What is the pressure of  22.4 liters of a Nitrous oxide that is stored at  32</a:t>
            </a:r>
            <a:r>
              <a:rPr b="1" lang="en-US" sz="2600" spc="-1" strike="noStrike" baseline="30000">
                <a:solidFill>
                  <a:srgbClr val="ffffff"/>
                </a:solidFill>
                <a:latin typeface="Chalkboard"/>
              </a:rPr>
              <a:t>oF</a:t>
            </a:r>
            <a:r>
              <a:rPr b="1" lang="en-US" sz="2600" spc="-1" strike="noStrike">
                <a:solidFill>
                  <a:srgbClr val="ffffff"/>
                </a:solidFill>
                <a:latin typeface="Chalkboard"/>
              </a:rPr>
              <a:t> ?</a:t>
            </a:r>
            <a:endParaRPr b="0" lang="en-US" sz="2600" spc="-1" strike="noStrike">
              <a:solidFill>
                <a:srgbClr val="ffffff"/>
              </a:solidFill>
              <a:latin typeface="Comic Sans MS"/>
            </a:endParaRPr>
          </a:p>
          <a:p>
            <a:pPr marL="3258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6" name=""/>
          <p:cNvSpPr/>
          <p:nvPr/>
        </p:nvSpPr>
        <p:spPr>
          <a:xfrm>
            <a:off x="932760" y="2666880"/>
            <a:ext cx="1322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ffffff"/>
                </a:solidFill>
                <a:latin typeface="Chalkboard"/>
              </a:rPr>
              <a:t>Answer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653840" y="2666880"/>
            <a:ext cx="23724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PV = n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070280" y="3352680"/>
            <a:ext cx="654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halkboard"/>
              </a:rPr>
              <a:t>P =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037960" y="3397320"/>
            <a:ext cx="1073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halkboard"/>
              </a:rPr>
              <a:t>X atm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006200" y="3886200"/>
            <a:ext cx="653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halkboard"/>
              </a:rPr>
              <a:t>V =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81160" y="3886200"/>
            <a:ext cx="1095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halkboard"/>
              </a:rPr>
              <a:t>22.4 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056960" y="4419720"/>
            <a:ext cx="659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halkboard"/>
              </a:rPr>
              <a:t>n =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248560" y="4419720"/>
            <a:ext cx="65725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ffffff"/>
                </a:solidFill>
                <a:latin typeface="Chalkboard"/>
              </a:rPr>
              <a:t>1 mole (use DIMO to convert liters to mole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999000" y="4952880"/>
            <a:ext cx="6609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halkboard"/>
              </a:rPr>
              <a:t>R =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039040" y="4952880"/>
            <a:ext cx="3411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ffffff"/>
                </a:solidFill>
                <a:latin typeface="Chalkboard"/>
              </a:rPr>
              <a:t>0.0821 L*atm / mol*K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1000440" y="5486400"/>
            <a:ext cx="639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halkboard"/>
              </a:rPr>
              <a:t>T =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1855440" y="5459400"/>
            <a:ext cx="118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Chalkboard"/>
              </a:rPr>
              <a:t> </a:t>
            </a:r>
            <a:r>
              <a:rPr b="0" i="1" lang="en-US" sz="2600" spc="-1" strike="noStrike">
                <a:solidFill>
                  <a:srgbClr val="ffffff"/>
                </a:solidFill>
                <a:latin typeface="Chalkboard"/>
              </a:rPr>
              <a:t>32</a:t>
            </a:r>
            <a:r>
              <a:rPr b="0" i="1" lang="en-US" sz="2600" spc="-1" strike="noStrike" baseline="30000">
                <a:solidFill>
                  <a:srgbClr val="ffffff"/>
                </a:solidFill>
                <a:latin typeface="Chalkboard"/>
              </a:rPr>
              <a:t>oF</a:t>
            </a:r>
            <a:r>
              <a:rPr b="0" i="1" lang="en-US" sz="2600" spc="-1" strike="noStrike">
                <a:solidFill>
                  <a:srgbClr val="ffffff"/>
                </a:solidFill>
                <a:latin typeface="Chalkboard"/>
              </a:rPr>
              <a:t> =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3003480" y="5486400"/>
            <a:ext cx="743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ffffff"/>
                </a:solidFill>
                <a:latin typeface="Chalkboard"/>
              </a:rPr>
              <a:t> </a:t>
            </a:r>
            <a:r>
              <a:rPr b="0" i="1" lang="en-US" sz="2600" spc="-1" strike="noStrike">
                <a:solidFill>
                  <a:srgbClr val="ffffff"/>
                </a:solidFill>
                <a:latin typeface="Chalkboard"/>
              </a:rPr>
              <a:t>0</a:t>
            </a:r>
            <a:r>
              <a:rPr b="0" i="1" lang="en-US" sz="2600" spc="-1" strike="noStrike" baseline="30000">
                <a:solidFill>
                  <a:srgbClr val="ffffff"/>
                </a:solidFill>
                <a:latin typeface="Chalkboard"/>
              </a:rPr>
              <a:t>oC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721320" y="5468760"/>
            <a:ext cx="369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halkboard"/>
              </a:rPr>
              <a:t>=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233240" y="5486400"/>
            <a:ext cx="3268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ffffff"/>
                </a:solidFill>
                <a:latin typeface="Chalkboard"/>
              </a:rPr>
              <a:t>0 + 273.15 = 273.15K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3" dur="indefinite" restart="never" nodeType="tmRoot">
          <p:childTnLst>
            <p:seq>
              <p:cTn id="704" dur="indefinite" nodeType="mainSeq">
                <p:childTnLst>
                  <p:par>
                    <p:cTn id="705" fill="hold">
                      <p:stCondLst>
                        <p:cond delay="0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2057040"/>
            <a:ext cx="8534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 u="sng">
                <a:solidFill>
                  <a:srgbClr val="ffffff"/>
                </a:solidFill>
                <a:uFillTx/>
                <a:latin typeface="Chalkboard"/>
              </a:rPr>
              <a:t>Common units</a:t>
            </a:r>
            <a:br>
              <a:rPr sz="3000"/>
            </a:br>
            <a:r>
              <a:rPr b="0" lang="en-US" sz="3000" spc="-1" strike="noStrike">
                <a:solidFill>
                  <a:srgbClr val="ffffff"/>
                </a:solidFill>
                <a:latin typeface="Chalkboard"/>
              </a:rPr>
              <a:t>(All of the following are equal to each other):</a:t>
            </a:r>
            <a:br>
              <a:rPr sz="3000"/>
            </a:br>
            <a:endParaRPr b="0" lang="en-US" sz="3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680" y="2971440"/>
            <a:ext cx="7772400" cy="3505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1 atm (atmosphere)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760 mm/Hg (millimeters of Mercury)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101.325KPa (Kilopascals)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14.7 psi or lb/in</a:t>
            </a:r>
            <a:r>
              <a:rPr b="0" lang="en-US" sz="2800" spc="-1" strike="noStrike" baseline="30000">
                <a:solidFill>
                  <a:srgbClr val="ffffff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0" y="15998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Chalkboard"/>
              </a:rPr>
              <a:t>Substituting in the appropriate values we get: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2" name=""/>
          <p:cNvSpPr/>
          <p:nvPr/>
        </p:nvSpPr>
        <p:spPr>
          <a:xfrm>
            <a:off x="3902400" y="2438280"/>
            <a:ext cx="15325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halkboard"/>
              </a:rPr>
              <a:t>PV = n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-565200" y="3429000"/>
            <a:ext cx="95547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(X atm.)(22.4 L) = (1 mol)(0.0821 L*atm / mol*K)(273.15 K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134160" y="4253040"/>
            <a:ext cx="3335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ffffff"/>
                </a:solidFill>
                <a:latin typeface="Chalkboard"/>
              </a:rPr>
              <a:t>(X atm) = 1.0011 atm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2" dur="indefinite" restart="never" nodeType="tmRoot">
          <p:childTnLst>
            <p:seq>
              <p:cTn id="773" dur="indefinite" nodeType="mainSeq">
                <p:childTnLst>
                  <p:par>
                    <p:cTn id="774" fill="hold">
                      <p:stCondLst>
                        <p:cond delay="0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1752120"/>
            <a:ext cx="86104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halkboard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Chalkboard"/>
              </a:rPr>
              <a:t>What is the temperature of 1 mole of Oxygen stored at 14.7 psi inside a 22.4 L cylinder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6" name=""/>
          <p:cNvSpPr/>
          <p:nvPr/>
        </p:nvSpPr>
        <p:spPr>
          <a:xfrm>
            <a:off x="2918160" y="3124080"/>
            <a:ext cx="163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PV = n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56000" y="3886200"/>
            <a:ext cx="841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(1 atm) (22.4 L) = (1 mol) (0.0821 L*atm/mol*K) (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728000" y="4724280"/>
            <a:ext cx="239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272.838 K = 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0" dur="indefinite" restart="never" nodeType="tmRoot">
          <p:childTnLst>
            <p:seq>
              <p:cTn id="791" dur="indefinite" nodeType="mainSeq">
                <p:childTnLst>
                  <p:par>
                    <p:cTn id="792" fill="hold">
                      <p:stCondLst>
                        <p:cond delay="0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04920" y="1752120"/>
            <a:ext cx="86104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halkboard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Chalkboard"/>
              </a:rPr>
              <a:t>What is the volume of  6.02*10</a:t>
            </a:r>
            <a:r>
              <a:rPr b="1" lang="en-US" sz="3200" spc="-1" strike="noStrike" baseline="30000">
                <a:solidFill>
                  <a:srgbClr val="ffffff"/>
                </a:solidFill>
                <a:latin typeface="Chalkboard"/>
              </a:rPr>
              <a:t>23</a:t>
            </a:r>
            <a:r>
              <a:rPr b="1" lang="en-US" sz="3200" spc="-1" strike="noStrike">
                <a:solidFill>
                  <a:srgbClr val="ffffff"/>
                </a:solidFill>
                <a:latin typeface="Chalkboard"/>
              </a:rPr>
              <a:t> molecules of H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Chalkboard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Chalkboard"/>
              </a:rPr>
              <a:t>S (Hydrogen sulfide) if it is under STP conditions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0" name=""/>
          <p:cNvSpPr/>
          <p:nvPr/>
        </p:nvSpPr>
        <p:spPr>
          <a:xfrm>
            <a:off x="2918160" y="3124080"/>
            <a:ext cx="163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PV = n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779400" y="3886200"/>
            <a:ext cx="83646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halkboard"/>
              </a:rPr>
              <a:t>(1 atm) (V L) = (1 mol) (0.0821 L*atm/mol*K) (273.15 K)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425680" y="4724280"/>
            <a:ext cx="17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V = 22.4 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8" dur="indefinite" restart="never" nodeType="tmRoot">
          <p:childTnLst>
            <p:seq>
              <p:cTn id="809" dur="indefinite" nodeType="mainSeq">
                <p:childTnLst>
                  <p:par>
                    <p:cTn id="810" fill="hold">
                      <p:stCondLst>
                        <p:cond delay="0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4920" y="1676160"/>
            <a:ext cx="86104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halkboard"/>
              </a:rPr>
              <a:t> 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ffff"/>
                </a:solidFill>
                <a:latin typeface="Chalkboard"/>
              </a:rPr>
              <a:t>How many moles of Chlorine would fill a balloon if its internal pressure was  760 mmHg while at a temperature of 32</a:t>
            </a:r>
            <a:r>
              <a:rPr b="1" lang="en-US" sz="2600" spc="-1" strike="noStrike" baseline="30000">
                <a:solidFill>
                  <a:srgbClr val="ffffff"/>
                </a:solidFill>
                <a:latin typeface="Chalkboard"/>
              </a:rPr>
              <a:t>oF</a:t>
            </a:r>
            <a:r>
              <a:rPr b="1" lang="en-US" sz="2600" spc="-1" strike="noStrike">
                <a:solidFill>
                  <a:srgbClr val="ffffff"/>
                </a:solidFill>
                <a:latin typeface="Chalkboard"/>
              </a:rPr>
              <a:t> and holding 22.4 liters of the gas?</a:t>
            </a:r>
            <a:endParaRPr b="0" lang="en-US" sz="2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4" name=""/>
          <p:cNvSpPr/>
          <p:nvPr/>
        </p:nvSpPr>
        <p:spPr>
          <a:xfrm>
            <a:off x="2918160" y="3124080"/>
            <a:ext cx="163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PV = n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04920" y="3733920"/>
            <a:ext cx="8839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halkboard"/>
              </a:rPr>
              <a:t>(1 atm) (22.4 L) = (X mol) (0.0821 L*atm/mol*K) (273.15 K)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2381040" y="4724280"/>
            <a:ext cx="363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0.998857779 = X mo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6" dur="indefinite" restart="never" nodeType="tmRoot">
          <p:childTnLst>
            <p:seq>
              <p:cTn id="827" dur="indefinite" nodeType="mainSeq">
                <p:childTnLst>
                  <p:par>
                    <p:cTn id="828" fill="hold">
                      <p:stCondLst>
                        <p:cond delay="0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04920" y="1752120"/>
            <a:ext cx="8534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Chalkboard"/>
              </a:rPr>
              <a:t>Practical Applications of the Ideal Gas Law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8" name=""/>
          <p:cNvSpPr/>
          <p:nvPr/>
        </p:nvSpPr>
        <p:spPr>
          <a:xfrm>
            <a:off x="0" y="2743200"/>
            <a:ext cx="8839080" cy="29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1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If an aerosol can with a volume of 750 mL has a pressure of 80 psi is heated from 20</a:t>
            </a:r>
            <a:r>
              <a:rPr b="1" lang="en-US" sz="2800" spc="-1" strike="noStrike" baseline="30000">
                <a:solidFill>
                  <a:srgbClr val="ffffff"/>
                </a:solidFill>
                <a:latin typeface="Chalkboard"/>
                <a:ea typeface="ＭＳ Ｐゴシック"/>
              </a:rPr>
              <a:t>oC</a:t>
            </a:r>
            <a:r>
              <a:rPr b="1" lang="en-US" sz="28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 (68</a:t>
            </a:r>
            <a:r>
              <a:rPr b="1" lang="en-US" sz="2800" spc="-1" strike="noStrike" baseline="30000">
                <a:solidFill>
                  <a:srgbClr val="ffffff"/>
                </a:solidFill>
                <a:latin typeface="Chalkboard"/>
                <a:ea typeface="ＭＳ Ｐゴシック"/>
              </a:rPr>
              <a:t>oF</a:t>
            </a:r>
            <a:r>
              <a:rPr b="1" lang="en-US" sz="28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) to 60</a:t>
            </a:r>
            <a:r>
              <a:rPr b="1" lang="en-US" sz="2800" spc="-1" strike="noStrike" baseline="30000">
                <a:solidFill>
                  <a:srgbClr val="ffffff"/>
                </a:solidFill>
                <a:latin typeface="Chalkboard"/>
                <a:ea typeface="ＭＳ Ｐゴシック"/>
              </a:rPr>
              <a:t>oC</a:t>
            </a:r>
            <a:r>
              <a:rPr b="1" lang="en-US" sz="28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 (140</a:t>
            </a:r>
            <a:r>
              <a:rPr b="1" lang="en-US" sz="2800" spc="-1" strike="noStrike" baseline="30000">
                <a:solidFill>
                  <a:srgbClr val="ffffff"/>
                </a:solidFill>
                <a:latin typeface="Chalkboard"/>
                <a:ea typeface="ＭＳ Ｐゴシック"/>
              </a:rPr>
              <a:t>oF</a:t>
            </a:r>
            <a:r>
              <a:rPr b="1" lang="en-US" sz="28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). </a:t>
            </a:r>
            <a:r>
              <a:rPr b="1" lang="en-US" sz="28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First, how many moles of the gas are in the can ?</a:t>
            </a:r>
            <a:r>
              <a:rPr b="1" lang="en-US" sz="28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Secondly, what is the new pressure in the can 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4" dur="indefinite" restart="never" nodeType="tmRoot">
          <p:childTnLst>
            <p:seq>
              <p:cTn id="845" dur="indefinite" nodeType="mainSeq">
                <p:childTnLst>
                  <p:par>
                    <p:cTn id="846" fill="hold">
                      <p:stCondLst>
                        <p:cond delay="0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914400" y="2361960"/>
            <a:ext cx="76960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I suggest making a chart (using the data given in the "problem") like the one that follows for all of these types of problems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4" dur="indefinite" restart="never" nodeType="tmRoot">
          <p:childTnLst>
            <p:seq>
              <p:cTn id="855" dur="indefinite" nodeType="mainSeq">
                <p:childTnLst>
                  <p:par>
                    <p:cTn id="856" fill="hold">
                      <p:stCondLst>
                        <p:cond delay="0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0" name=""/>
          <p:cNvGraphicFramePr/>
          <p:nvPr/>
        </p:nvGraphicFramePr>
        <p:xfrm>
          <a:off x="1143000" y="1828800"/>
          <a:ext cx="6858000" cy="3886200"/>
        </p:xfrm>
        <a:graphic>
          <a:graphicData uri="http://schemas.openxmlformats.org/drawingml/2006/table">
            <a:tbl>
              <a:tblPr/>
              <a:tblGrid>
                <a:gridCol w="2286000"/>
                <a:gridCol w="2286000"/>
                <a:gridCol w="2286000"/>
              </a:tblGrid>
              <a:tr h="6476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Initia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Fina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Pressur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80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Volum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# of mol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Temperature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1" name=""/>
          <p:cNvSpPr/>
          <p:nvPr/>
        </p:nvSpPr>
        <p:spPr>
          <a:xfrm>
            <a:off x="3960000" y="2514600"/>
            <a:ext cx="115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80 ps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3949200" y="3200400"/>
            <a:ext cx="140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750 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4433400" y="3809880"/>
            <a:ext cx="38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894120" y="4495680"/>
            <a:ext cx="375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halkboard"/>
              </a:rPr>
              <a:t>0.0821 L*atm/mol*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140000" y="5105520"/>
            <a:ext cx="93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20 </a:t>
            </a:r>
            <a:r>
              <a:rPr b="0" lang="en-US" sz="2800" spc="-1" strike="noStrike" baseline="30000">
                <a:solidFill>
                  <a:srgbClr val="ffffff"/>
                </a:solidFill>
                <a:latin typeface="Chalkboard"/>
              </a:rPr>
              <a:t>o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6634440" y="2514600"/>
            <a:ext cx="38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158880" y="3200400"/>
            <a:ext cx="140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750 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643440" y="3809880"/>
            <a:ext cx="38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6426000" y="5105520"/>
            <a:ext cx="93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60 </a:t>
            </a:r>
            <a:r>
              <a:rPr b="0" lang="en-US" sz="2800" spc="-1" strike="noStrike" baseline="30000">
                <a:solidFill>
                  <a:srgbClr val="ffffff"/>
                </a:solidFill>
                <a:latin typeface="Chalkboard"/>
              </a:rPr>
              <a:t>o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0" dur="indefinite" restart="never" nodeType="tmRoot">
          <p:childTnLst>
            <p:seq>
              <p:cTn id="861" dur="indefinite" nodeType="mainSeq">
                <p:childTnLst>
                  <p:par>
                    <p:cTn id="862" fill="hold">
                      <p:stCondLst>
                        <p:cond delay="0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914400" y="21333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At this point you should be able to see that you first have to solve for "x" in the original problem.</a:t>
            </a:r>
            <a:r>
              <a:rPr b="0" i="1" lang="en-US" sz="2800" spc="-1" strike="noStrike">
                <a:solidFill>
                  <a:srgbClr val="ffffff"/>
                </a:solidFill>
                <a:latin typeface="Chalkboar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1" name=""/>
          <p:cNvSpPr/>
          <p:nvPr/>
        </p:nvSpPr>
        <p:spPr>
          <a:xfrm>
            <a:off x="0" y="4038480"/>
            <a:ext cx="876312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You will first have to convert the information into the correct uni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2" dur="indefinite" restart="never" nodeType="tmRoot">
          <p:childTnLst>
            <p:seq>
              <p:cTn id="903" dur="indefinite" nodeType="mainSeq">
                <p:childTnLst>
                  <p:par>
                    <p:cTn id="904" fill="hold">
                      <p:stCondLst>
                        <p:cond delay="0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916200" y="1676520"/>
            <a:ext cx="3838320" cy="30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914400">
              <a:lnSpc>
                <a:spcPct val="13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P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Chalkboard"/>
                <a:ea typeface="ＭＳ Ｐゴシック"/>
              </a:rPr>
              <a:t>i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Chalkboard"/>
                <a:ea typeface="ＭＳ Ｐゴシック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=</a:t>
            </a:r>
            <a:r>
              <a:rPr b="0" i="1" lang="en-US" sz="28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3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V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Chalkboard"/>
                <a:ea typeface="ＭＳ Ｐゴシック"/>
              </a:rPr>
              <a:t>i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Chalkboard"/>
                <a:ea typeface="ＭＳ Ｐゴシック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=</a:t>
            </a:r>
            <a:r>
              <a:rPr b="0" i="1" lang="en-US" sz="28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3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n</a:t>
            </a:r>
            <a:r>
              <a:rPr b="0" i="1" lang="en-US" sz="28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=</a:t>
            </a:r>
            <a:r>
              <a:rPr b="0" i="1" lang="en-US" sz="28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3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R</a:t>
            </a:r>
            <a:r>
              <a:rPr b="0" i="1" lang="en-US" sz="28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=</a:t>
            </a:r>
            <a:r>
              <a:rPr b="0" i="1" lang="en-US" sz="28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3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T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Chalkboard"/>
                <a:ea typeface="ＭＳ Ｐゴシック"/>
              </a:rPr>
              <a:t>i</a:t>
            </a:r>
            <a:r>
              <a:rPr b="0" i="1" lang="en-US" sz="28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=</a:t>
            </a:r>
            <a:r>
              <a:rPr b="0" i="1" lang="en-US" sz="28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4055760" y="4038480"/>
            <a:ext cx="154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Chalkboard"/>
              </a:rPr>
              <a:t>293.15 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332880" y="3352680"/>
            <a:ext cx="4851720" cy="107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914400">
              <a:lnSpc>
                <a:spcPct val="13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0.0821 l * atm / mol * 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4359600" y="2895480"/>
            <a:ext cx="10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Chalkboard"/>
              </a:rPr>
              <a:t>X mo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196160" y="2362320"/>
            <a:ext cx="172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Chalkboard"/>
              </a:rPr>
              <a:t>0.75 li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4148640" y="1828800"/>
            <a:ext cx="157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Chalkboard"/>
              </a:rPr>
              <a:t>5.44 at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231200" y="4800600"/>
            <a:ext cx="4672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Chalkboard"/>
              </a:rPr>
              <a:t>Therefore using      PV = nR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2975400" y="5410080"/>
            <a:ext cx="2867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Chalkboard"/>
              </a:rPr>
              <a:t>n = 0.1695 mo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2" dur="indefinite" restart="never" nodeType="tmRoot">
          <p:childTnLst>
            <p:seq>
              <p:cTn id="913" dur="indefinite" nodeType="mainSeq">
                <p:childTnLst>
                  <p:par>
                    <p:cTn id="914" fill="hold">
                      <p:stCondLst>
                        <p:cond delay="0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fill="hold">
                      <p:stCondLst>
                        <p:cond delay="indefinite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fill="hold">
                      <p:stCondLst>
                        <p:cond delay="indefinite"/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0" name=""/>
          <p:cNvGraphicFramePr/>
          <p:nvPr/>
        </p:nvGraphicFramePr>
        <p:xfrm>
          <a:off x="1143000" y="1828800"/>
          <a:ext cx="6858000" cy="3886200"/>
        </p:xfrm>
        <a:graphic>
          <a:graphicData uri="http://schemas.openxmlformats.org/drawingml/2006/table">
            <a:tbl>
              <a:tblPr/>
              <a:tblGrid>
                <a:gridCol w="2286000"/>
                <a:gridCol w="2286000"/>
                <a:gridCol w="2286000"/>
              </a:tblGrid>
              <a:tr h="6476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Initia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Fina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Pressur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80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Volum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# of mol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0.1695 mo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0.1695 mo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Temperature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1" name=""/>
          <p:cNvSpPr/>
          <p:nvPr/>
        </p:nvSpPr>
        <p:spPr>
          <a:xfrm>
            <a:off x="3960000" y="2514600"/>
            <a:ext cx="115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80 ps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949200" y="3200400"/>
            <a:ext cx="140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750 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894120" y="4495680"/>
            <a:ext cx="375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halkboard"/>
              </a:rPr>
              <a:t>0.0821 L*atm/mol*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4140000" y="5105520"/>
            <a:ext cx="93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20 </a:t>
            </a:r>
            <a:r>
              <a:rPr b="0" lang="en-US" sz="2800" spc="-1" strike="noStrike" baseline="30000">
                <a:solidFill>
                  <a:srgbClr val="ffffff"/>
                </a:solidFill>
                <a:latin typeface="Chalkboard"/>
              </a:rPr>
              <a:t>o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6634440" y="2514600"/>
            <a:ext cx="38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6158880" y="3200400"/>
            <a:ext cx="140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750 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6426000" y="5105520"/>
            <a:ext cx="93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60 </a:t>
            </a:r>
            <a:r>
              <a:rPr b="0" lang="en-US" sz="2800" spc="-1" strike="noStrike" baseline="30000">
                <a:solidFill>
                  <a:srgbClr val="ffffff"/>
                </a:solidFill>
                <a:latin typeface="Chalkboard"/>
              </a:rPr>
              <a:t>o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6" dur="indefinite" restart="never" nodeType="tmRoot">
          <p:childTnLst>
            <p:seq>
              <p:cTn id="947" dur="indefinite" nodeType="mainSeq">
                <p:childTnLst>
                  <p:par>
                    <p:cTn id="948" fill="hold">
                      <p:stCondLst>
                        <p:cond delay="0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Chalkboard"/>
              </a:rPr>
              <a:t>Volume -</a:t>
            </a:r>
            <a:r>
              <a:rPr b="0" lang="en-US" sz="4000" spc="-1" strike="noStrike">
                <a:solidFill>
                  <a:srgbClr val="ffffff"/>
                </a:solidFill>
                <a:latin typeface="Chalkboard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371600" y="28195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e amount of space a gas is filling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-104760" y="1752480"/>
            <a:ext cx="8887320" cy="35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914400">
              <a:lnSpc>
                <a:spcPct val="13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P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Chalkboard"/>
                <a:ea typeface="ＭＳ Ｐゴシック"/>
              </a:rPr>
              <a:t>f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Chalkboard"/>
                <a:ea typeface="ＭＳ Ｐゴシック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=</a:t>
            </a:r>
            <a:r>
              <a:rPr b="0" i="1" lang="en-US" sz="28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3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V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Chalkboard"/>
                <a:ea typeface="ＭＳ Ｐゴシック"/>
              </a:rPr>
              <a:t>f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Chalkboard"/>
                <a:ea typeface="ＭＳ Ｐゴシック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=</a:t>
            </a:r>
            <a:r>
              <a:rPr b="0" i="1" lang="en-US" sz="28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0.75 li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3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n</a:t>
            </a:r>
            <a:r>
              <a:rPr b="0" i="1" lang="en-US" sz="28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=</a:t>
            </a:r>
            <a:r>
              <a:rPr b="0" i="1" lang="en-US" sz="28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0.1695 moles (calculated abov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3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R</a:t>
            </a:r>
            <a:r>
              <a:rPr b="0" i="1" lang="en-US" sz="28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=</a:t>
            </a:r>
            <a:r>
              <a:rPr b="0" i="1" lang="en-US" sz="28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0.0821 l * atm / mol * 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3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T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Chalkboard"/>
                <a:ea typeface="ＭＳ Ｐゴシック"/>
              </a:rPr>
              <a:t>f</a:t>
            </a:r>
            <a:r>
              <a:rPr b="0" i="1" lang="en-US" sz="28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=</a:t>
            </a:r>
            <a:r>
              <a:rPr b="0" i="1" lang="en-US" sz="28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333.15 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1135440" y="4952880"/>
            <a:ext cx="3592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Chalkboard"/>
              </a:rPr>
              <a:t>Solving  for </a:t>
            </a:r>
            <a:r>
              <a:rPr b="0" i="1" lang="en-US" sz="2800" spc="-1" strike="noStrike">
                <a:solidFill>
                  <a:srgbClr val="ffffff"/>
                </a:solidFill>
                <a:latin typeface="Chalkboard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Chalkboard"/>
              </a:rPr>
              <a:t>P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Chalkboard"/>
              </a:rPr>
              <a:t>f  </a:t>
            </a:r>
            <a:r>
              <a:rPr b="0" i="1" lang="en-US" sz="2800" spc="-1" strike="noStrike">
                <a:solidFill>
                  <a:srgbClr val="ffffff"/>
                </a:solidFill>
                <a:latin typeface="Chalkboard"/>
              </a:rPr>
              <a:t> =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044680" y="4983120"/>
            <a:ext cx="193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6.18 atm =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8297280" y="495288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Chalkboard"/>
              </a:rPr>
              <a:t>ps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7112880" y="495288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Chalkboard"/>
              </a:rPr>
              <a:t>90.84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7557840" y="4952880"/>
            <a:ext cx="38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0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Comic Sans MS"/>
              </a:rPr>
              <a:t>Dalton’s Law of Partial Pressure</a:t>
            </a:r>
            <a:endParaRPr b="0" lang="en-US" sz="3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09120" y="2514240"/>
            <a:ext cx="8153640" cy="3505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t constant volume and temperature, the total pressure exerted by a mixture of gases is equal to the sum of the partial pressures of the component gases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6" name=""/>
          <p:cNvSpPr/>
          <p:nvPr/>
        </p:nvSpPr>
        <p:spPr>
          <a:xfrm>
            <a:off x="2467800" y="5235480"/>
            <a:ext cx="427500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halkboard"/>
              </a:rPr>
              <a:t>P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Chalkboard"/>
              </a:rPr>
              <a:t>total</a:t>
            </a:r>
            <a:r>
              <a:rPr b="0" lang="en-US" sz="3000" spc="-1" strike="noStrike">
                <a:solidFill>
                  <a:srgbClr val="ffffff"/>
                </a:solidFill>
                <a:latin typeface="Chalkboard"/>
              </a:rPr>
              <a:t> = P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Chalkboard"/>
              </a:rPr>
              <a:t>1</a:t>
            </a:r>
            <a:r>
              <a:rPr b="0" lang="en-US" sz="3000" spc="-1" strike="noStrike">
                <a:solidFill>
                  <a:srgbClr val="ffffff"/>
                </a:solidFill>
                <a:latin typeface="Chalkboard"/>
              </a:rPr>
              <a:t> + P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Chalkboard"/>
              </a:rPr>
              <a:t>2</a:t>
            </a:r>
            <a:r>
              <a:rPr b="0" lang="en-US" sz="3000" spc="-1" strike="noStrike">
                <a:solidFill>
                  <a:srgbClr val="ffffff"/>
                </a:solidFill>
                <a:latin typeface="Chalkboard"/>
              </a:rPr>
              <a:t> + P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Chalkboard"/>
              </a:rPr>
              <a:t>3</a:t>
            </a:r>
            <a:r>
              <a:rPr b="0" lang="en-US" sz="3000" spc="-1" strike="noStrike">
                <a:solidFill>
                  <a:srgbClr val="ffffff"/>
                </a:solidFill>
                <a:latin typeface="Chalkboard"/>
              </a:rPr>
              <a:t> + P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Chalkboard"/>
              </a:rPr>
              <a:t>4</a:t>
            </a:r>
            <a:r>
              <a:rPr b="0" lang="en-US" sz="3000" spc="-1" strike="noStrike">
                <a:solidFill>
                  <a:srgbClr val="ffffff"/>
                </a:solidFill>
                <a:latin typeface="Chalkboard"/>
              </a:rPr>
              <a:t>…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1" dur="indefinite" restart="never" nodeType="tmRoot">
          <p:childTnLst>
            <p:seq>
              <p:cTn id="992" dur="indefinite" nodeType="mainSeq">
                <p:childTnLst>
                  <p:par>
                    <p:cTn id="993" fill="hold">
                      <p:stCondLst>
                        <p:cond delay="0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fill="hold">
                      <p:stCondLst>
                        <p:cond delay="indefinite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Comic Sans MS"/>
              </a:rPr>
              <a:t>Partial Pressure</a:t>
            </a:r>
            <a:endParaRPr b="0" lang="en-US" sz="3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1295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e contribution each gas in a mixture makes to the total pressure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9" name=""/>
          <p:cNvSpPr/>
          <p:nvPr/>
        </p:nvSpPr>
        <p:spPr>
          <a:xfrm>
            <a:off x="1253880" y="3581280"/>
            <a:ext cx="596412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halkboard"/>
              </a:rPr>
              <a:t>Represented by:  P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Chalkboard"/>
              </a:rPr>
              <a:t>X</a:t>
            </a:r>
            <a:r>
              <a:rPr b="0" lang="en-US" sz="3000" spc="-1" strike="noStrike">
                <a:solidFill>
                  <a:srgbClr val="ffffff"/>
                </a:solidFill>
                <a:latin typeface="Chalkboard"/>
              </a:rPr>
              <a:t> 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Chalkboard"/>
              </a:rPr>
              <a:t>(the name of the gas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506160" y="4191120"/>
            <a:ext cx="89956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Like any pressure, Partial Pressure depends 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ffffff"/>
              </a:buClr>
              <a:buFont typeface="Chalkboard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# of mo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ffffff"/>
              </a:buClr>
              <a:buFont typeface="Chalkboard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Volu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ffffff"/>
              </a:buClr>
              <a:buFont typeface="Chalkboard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Average kinetic ener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5965920" y="5486400"/>
            <a:ext cx="258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(Temperatur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5" dur="indefinite" restart="never" nodeType="tmRoot">
          <p:childTnLst>
            <p:seq>
              <p:cTn id="1006" dur="indefinite" nodeType="mainSeq">
                <p:childTnLst>
                  <p:par>
                    <p:cTn id="1007" fill="hold">
                      <p:stCondLst>
                        <p:cond delay="0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5" fill="hold">
                      <p:stCondLst>
                        <p:cond delay="indefinite"/>
                      </p:stCondLst>
                      <p:childTnLst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3" fill="hold">
                      <p:stCondLst>
                        <p:cond delay="indefinite"/>
                      </p:stCondLst>
                      <p:childTnLst>
                        <p:par>
                          <p:cTn id="1024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Mole fraction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09480" y="2819520"/>
            <a:ext cx="82296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e fraction of moles of a component gas in the total moles of a mixture of gases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7" dur="indefinite" restart="never" nodeType="tmRoot">
          <p:childTnLst>
            <p:seq>
              <p:cTn id="1028" dur="indefinite" nodeType="mainSeq">
                <p:childTnLst>
                  <p:par>
                    <p:cTn id="1029" fill="hold">
                      <p:stCondLst>
                        <p:cond delay="0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3" fill="hold">
                      <p:stCondLst>
                        <p:cond delay="indefinite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914400" y="297144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Example #1: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Air contains Oxygen, Nitrogen, Carbon dioxide, and some other gases. What is the partial pressure of Oxygen (P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halkboard"/>
              </a:rPr>
              <a:t>O2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) at</a:t>
            </a:r>
            <a:r>
              <a:rPr b="0" lang="en-US" sz="4000" spc="-1" strike="noStrike">
                <a:solidFill>
                  <a:srgbClr val="ffffff"/>
                </a:solidFill>
                <a:latin typeface="Chalkboar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760 mmHg  if P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halkboard"/>
              </a:rPr>
              <a:t>N2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 = 593.3 mmHg, P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halkboard"/>
              </a:rPr>
              <a:t>CO2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 = 0.3 mmHg and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P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halkboard"/>
              </a:rPr>
              <a:t>Others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 = 7.05 mmHg?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/>
          <p:nvPr/>
        </p:nvSpPr>
        <p:spPr>
          <a:xfrm>
            <a:off x="2145600" y="1969920"/>
            <a:ext cx="56721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P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Chalkboard"/>
              </a:rPr>
              <a:t>Total</a:t>
            </a: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 = P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Chalkboard"/>
              </a:rPr>
              <a:t>O2</a:t>
            </a: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 + P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Chalkboard"/>
              </a:rPr>
              <a:t>N2</a:t>
            </a: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 + P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Chalkboard"/>
              </a:rPr>
              <a:t>CO2</a:t>
            </a: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 + P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Chalkboard"/>
              </a:rPr>
              <a:t>Other</a:t>
            </a: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/>
          </p:nvPr>
        </p:nvSpPr>
        <p:spPr>
          <a:xfrm>
            <a:off x="-360" y="1676520"/>
            <a:ext cx="883908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A 10.0 liter flask contains 1.031 g. of 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halkboard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 and 0.572 g. of C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halkboard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 at 18˚</a:t>
            </a:r>
            <a:r>
              <a:rPr b="0" lang="en-US" sz="2800" spc="-1" strike="noStrike" baseline="30000">
                <a:solidFill>
                  <a:srgbClr val="ffffff"/>
                </a:solidFill>
                <a:latin typeface="Chalkboard"/>
              </a:rPr>
              <a:t>C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. What are the partial pressures of the 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halkboard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 and C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halkboard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? What is the pressure inside the flask? What is the mole fraction of the 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halkboard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 in the mixture?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/>
          </p:nvPr>
        </p:nvSpPr>
        <p:spPr>
          <a:xfrm>
            <a:off x="838080" y="1752120"/>
            <a:ext cx="7772400" cy="3505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Chalkboard"/>
              </a:rPr>
              <a:t>Temperature -</a:t>
            </a:r>
            <a:r>
              <a:rPr b="0" lang="en-US" sz="4000" spc="-1" strike="noStrike">
                <a:solidFill>
                  <a:srgbClr val="ffffff"/>
                </a:solidFill>
                <a:latin typeface="Chalkboard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30481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A measure of the average velocity of the gas particles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0" name=""/>
          <p:cNvSpPr/>
          <p:nvPr/>
        </p:nvSpPr>
        <p:spPr>
          <a:xfrm>
            <a:off x="293040" y="4549680"/>
            <a:ext cx="6110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Standard temperature = 0</a:t>
            </a:r>
            <a:r>
              <a:rPr b="0" lang="en-US" sz="3000" spc="-1" strike="noStrike" baseline="30000">
                <a:solidFill>
                  <a:srgbClr val="ffffff"/>
                </a:solidFill>
                <a:latin typeface="Chalkboard"/>
                <a:ea typeface="ＭＳ Ｐゴシック"/>
              </a:rPr>
              <a:t>oC</a:t>
            </a:r>
            <a:r>
              <a:rPr b="1" lang="en-US" sz="3000" spc="-1" strike="noStrike">
                <a:solidFill>
                  <a:srgbClr val="ff0000"/>
                </a:solidFill>
                <a:latin typeface="Chalkboard"/>
                <a:ea typeface="ＭＳ Ｐゴシック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Chalkboard"/>
              </a:rPr>
              <a:t>Mole -</a:t>
            </a:r>
            <a:r>
              <a:rPr b="0" lang="en-US" sz="3000" spc="-1" strike="noStrike">
                <a:solidFill>
                  <a:srgbClr val="ffffff"/>
                </a:solidFill>
                <a:latin typeface="Chalkboard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0" y="2590920"/>
            <a:ext cx="876312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lvl="2" marL="1143000" indent="0">
              <a:lnSpc>
                <a:spcPct val="12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halkboard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halkboard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halkboard"/>
              </a:rPr>
              <a:t>1 mole of any gas at "STP" will always equal 22.4 liters.</a:t>
            </a:r>
            <a:endParaRPr b="0" lang="en-US" sz="3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 u="sng">
                <a:solidFill>
                  <a:srgbClr val="ffffff"/>
                </a:solidFill>
                <a:uFillTx/>
                <a:latin typeface="Chalkboard"/>
              </a:rPr>
              <a:t>STP -</a:t>
            </a:r>
            <a:r>
              <a:rPr b="0" lang="en-US" sz="3000" spc="-1" strike="noStrike">
                <a:solidFill>
                  <a:srgbClr val="ff0000"/>
                </a:solidFill>
                <a:latin typeface="Chalkboard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-360" y="2437920"/>
            <a:ext cx="8839080" cy="3505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lvl="2" marL="11430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 u="sng">
                <a:solidFill>
                  <a:srgbClr val="ffffff"/>
                </a:solidFill>
                <a:uFillTx/>
                <a:latin typeface="Chalkboard"/>
              </a:rPr>
              <a:t>S</a:t>
            </a:r>
            <a:r>
              <a:rPr b="0" lang="en-US" sz="3400" spc="-1" strike="noStrike">
                <a:solidFill>
                  <a:srgbClr val="ffffff"/>
                </a:solidFill>
                <a:latin typeface="Chalkboard"/>
              </a:rPr>
              <a:t>tandard </a:t>
            </a:r>
            <a:r>
              <a:rPr b="0" lang="en-US" sz="3400" spc="-1" strike="noStrike" u="sng">
                <a:solidFill>
                  <a:srgbClr val="ffffff"/>
                </a:solidFill>
                <a:uFillTx/>
                <a:latin typeface="Chalkboard"/>
              </a:rPr>
              <a:t>T</a:t>
            </a:r>
            <a:r>
              <a:rPr b="0" lang="en-US" sz="3400" spc="-1" strike="noStrike">
                <a:solidFill>
                  <a:srgbClr val="ffffff"/>
                </a:solidFill>
                <a:latin typeface="Chalkboard"/>
              </a:rPr>
              <a:t>emperature and </a:t>
            </a:r>
            <a:r>
              <a:rPr b="0" lang="en-US" sz="3400" spc="-1" strike="noStrike" u="sng">
                <a:solidFill>
                  <a:srgbClr val="ffffff"/>
                </a:solidFill>
                <a:uFillTx/>
                <a:latin typeface="Chalkboard"/>
              </a:rPr>
              <a:t>P</a:t>
            </a:r>
            <a:r>
              <a:rPr b="0" lang="en-US" sz="3400" spc="-1" strike="noStrike">
                <a:solidFill>
                  <a:srgbClr val="ffffff"/>
                </a:solidFill>
                <a:latin typeface="Chalkboard"/>
              </a:rPr>
              <a:t>ressure.</a:t>
            </a:r>
            <a:endParaRPr b="0" lang="en-US" sz="3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5" name=""/>
          <p:cNvSpPr/>
          <p:nvPr/>
        </p:nvSpPr>
        <p:spPr>
          <a:xfrm>
            <a:off x="1093320" y="4800600"/>
            <a:ext cx="4103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ffffff"/>
                </a:solidFill>
                <a:uFillTx/>
                <a:latin typeface="Chalkboard"/>
              </a:rPr>
              <a:t>Standard Pressure =</a:t>
            </a:r>
            <a:r>
              <a:rPr b="0" lang="en-US" sz="3000" spc="-1" strike="noStrike">
                <a:solidFill>
                  <a:srgbClr val="ff0000"/>
                </a:solidFill>
                <a:latin typeface="Chalkboard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974200" y="3809880"/>
            <a:ext cx="1089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halkboard"/>
              </a:rPr>
              <a:t>0 </a:t>
            </a:r>
            <a:r>
              <a:rPr b="0" lang="en-US" sz="3000" spc="-1" strike="noStrike" baseline="30000">
                <a:solidFill>
                  <a:srgbClr val="ffffff"/>
                </a:solidFill>
                <a:latin typeface="Chalkboard"/>
              </a:rPr>
              <a:t>oC</a:t>
            </a:r>
            <a:r>
              <a:rPr b="0" lang="en-US" sz="3000" spc="-1" strike="noStrike">
                <a:solidFill>
                  <a:srgbClr val="ffffff"/>
                </a:solidFill>
                <a:latin typeface="Chalkboard"/>
              </a:rPr>
              <a:t> =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220720" y="4800600"/>
            <a:ext cx="1204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halkboard"/>
              </a:rPr>
              <a:t>1 atm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13400" y="3809880"/>
            <a:ext cx="4845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ffffff"/>
                </a:solidFill>
                <a:uFillTx/>
                <a:latin typeface="Chalkboard"/>
              </a:rPr>
              <a:t>Standard Temperature =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179480" y="3809880"/>
            <a:ext cx="1169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halkboard"/>
              </a:rPr>
              <a:t>273 K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Chalkboard"/>
              </a:rPr>
              <a:t>Universal Gas Constant -</a:t>
            </a:r>
            <a:r>
              <a:rPr b="0" lang="en-US" sz="4000" spc="-1" strike="noStrike">
                <a:solidFill>
                  <a:srgbClr val="ffffff"/>
                </a:solidFill>
                <a:latin typeface="Chalkboard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7772400" cy="3505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An unchanging, numerical value, that "allows" the various units of the gas laws to be combined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2" name=""/>
          <p:cNvSpPr/>
          <p:nvPr/>
        </p:nvSpPr>
        <p:spPr>
          <a:xfrm>
            <a:off x="1120680" y="4979880"/>
            <a:ext cx="408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=   0.0821 L*atm/mol*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447880" y="4952880"/>
            <a:ext cx="305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=  8.3145 J/K*mo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7T23:33:13Z</dcterms:created>
  <dc:creator>PA Department of Education</dc:creator>
  <dc:description/>
  <dc:language>en-US</dc:language>
  <cp:lastModifiedBy>PA Department of Education</cp:lastModifiedBy>
  <dcterms:modified xsi:type="dcterms:W3CDTF">2009-05-06T13:16:47Z</dcterms:modified>
  <cp:revision>89</cp:revision>
  <dc:subject/>
  <dc:title>Unit #9</dc:title>
</cp:coreProperties>
</file>